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AF19-D6E9-4DBE-BED2-B2589AE92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D12E-B333-4B96-A781-12CE9F057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82E6-3655-493D-A88F-7ED4F15AD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7A5F-0919-482F-B04C-B98171DB2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01B9A-57D3-4B70-A69F-50892B3A0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386B0-BBD8-45CD-80C0-8CC3451B3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65C79-D3E6-45B7-8480-270600B19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F1BB7-2ACC-42F2-A5F4-5051486AC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53846-6CA7-4393-839A-4420814DF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A410B-AD1B-4D74-98D1-743E12292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A31FC-4DCA-4FF9-A640-636E944B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8CBB-31ED-497C-8C8E-FC6CDC783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17B55-D8E2-42B7-A1E6-7E706FF6B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881CC-8D0A-4E9F-A1E0-C9ECBDC5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4E7D8-308E-403C-BDC8-B6113BB94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9582D-0417-4726-8300-7F66B7A49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FD1BE-5C22-471B-9947-54E50568B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A80DD-7BF2-4D14-9EF2-7AC1A71A9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B962F-3279-4AC2-87FF-614DB9D39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0DF57-2894-48B2-9D48-E9D9101B5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6DDBB-4505-4FE5-AB91-7DF737570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ABA2C-D9B7-44F8-A645-E9B94DE6B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17A1-A0ED-4DAF-BC91-3E0E38E40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6AB6C-6B88-44CC-9804-0530DDC56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5F58B-C600-4904-B0B6-034CE2F5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10EE7-25E3-41F8-9FF0-685B44BA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BF366-CE4E-479A-80B3-A73AD2F8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BCB3F-1E8A-43E8-BDD7-27951699D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1C94F-6D36-4B7A-94C8-6D36D84C6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9AE30-7355-40C9-A190-4F214CC95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E3B52-89F6-406C-A0B7-CF937BF8D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652F9-E7ED-4135-A7BC-B658DBDAF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16D90-9B89-4360-8014-C68264061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C94F-CCFD-4DC0-BBF6-E5A2EE5FE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C4F53-9263-43C0-99E9-B9C3D8CA2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21274-B7CE-4550-A09F-2B88C69E0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9A4D0-1C44-4486-B4A8-952DD76A4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29476-4CDC-4092-A903-2FFDCCCBB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EC3EE-834A-43A9-8904-A45E22F1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5C653-AB67-45E3-B407-A0BC9479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54A2E-A7E5-4EBD-9D17-AA9814DC5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9F6D4-2BAA-45A7-A683-EA671AACB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BDBC0-50CD-43B4-81EF-2B2541FB5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04B658-2D76-4FB5-AC94-401214BDF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DF9A-6611-49C9-B4C7-284BA1BDF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FFF617-1004-4149-9EEF-9F4C45624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50571-8CF5-47A0-8C27-A2265ED0A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6D5F5C-E4CA-4D00-9B14-1951D9186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8907AE-7444-4F27-B40E-06CCC7022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39FA6-8F4C-4BC2-A349-C4B6F682C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9CB86D-BBAE-4E88-9671-AD74F113C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A26C5-BDB2-4CE7-B620-A3859403F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B4F0F2-980E-44C0-88C1-69ED37B4E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0DE60-5C42-4AD7-9F2C-DF4BF423A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A397E-004C-4F90-A1D1-819A285E1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D461-8553-47D3-A873-33EDF2A0E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8217D9-EA47-4BA2-B776-D02F83A60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7999C-4C07-4669-9694-866568B57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2D9D93-F320-449B-8327-EE0B5F4C8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FA1BA4-A19B-4B1D-86DD-74AACBE73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40E655-5714-467A-9059-05CF57B10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AE5590-DEBA-4D2A-9BE8-AA7A8CEE0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6912CF-5B5E-4289-BD61-E045689D9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4E609B-C489-45B6-BCDD-52228FECD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614BED-474D-49B4-8CBA-0DA3CC11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5B5D9D-962F-4528-998E-DCE8C67AE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9742-91A5-41A3-ACAB-E48D6536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17A89B-4F26-4F88-A3B6-83DA31214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F8EC0E-6805-4A97-9BA0-05DD23288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3A809-5001-4BBE-B708-3307B9399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42ECF0-FBAB-4431-BFFA-54A00B40B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555F49-F2B4-41B6-B2B3-5F76ADF97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EEC870-B160-4D93-9B05-D6F7222E4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326279-D997-4EF4-B1D3-7200CBCBC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C576FD-3EFD-4400-9748-0F142E6AC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0D730F-46DC-48EE-8576-082DE6C3C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ED5ED7-8B67-4A98-B068-E889CF71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4282-252E-4E48-8460-53B33D9C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A9FA8C-3AAB-4418-B17D-2219EE9E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2313E1-CB0B-4F98-BD6E-781B64E6B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06CE85-D89A-4C94-B646-EE8ED71C7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21779A-E40C-4CD1-91A7-5BCA797DC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F9C9C-7297-4F8E-959D-B7031D4D4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DE7D-9075-41F3-AFAD-26C23CC3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3B17FA-2F36-46C7-9424-8A1FC60E06C0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56FC9E-7477-4BA7-862C-00F0EFC1D1D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797C1F-FE1E-4B11-B2FB-CE22F99AFF2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809DF3-87CF-45B8-893B-BD939F837493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A10896-A19A-4848-92A8-57363F6FFC39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313D9F-8BB3-4816-A280-3C0B618E30C4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E30011-51E9-41FF-BD08-A1E1F5299883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0" y="0"/>
            <a:ext cx="8077320" cy="1676520"/>
          </a:xfrm>
          <a:prstGeom prst="rect">
            <a:avLst/>
          </a:prstGeom>
          <a:ln w="0">
            <a:noFill/>
          </a:ln>
        </p:spPr>
      </p:pic>
      <p:sp>
        <p:nvSpPr>
          <p:cNvPr id="304" name="TextBox 3"/>
          <p:cNvSpPr/>
          <p:nvPr/>
        </p:nvSpPr>
        <p:spPr>
          <a:xfrm>
            <a:off x="398520" y="5504040"/>
            <a:ext cx="8364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Learning Goal: Students will be able to explain at least 2 trends of the 1920’s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TextBox 4"/>
          <p:cNvSpPr/>
          <p:nvPr/>
        </p:nvSpPr>
        <p:spPr>
          <a:xfrm>
            <a:off x="398520" y="1170000"/>
            <a:ext cx="854064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ellwork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hesis Statement Prompt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irection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ad the following prompt and respond with a 1 sentence thesis statement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 Value: 9 Points (Quiz Grade)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OMP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 League of Nations was going to fail regardless of whether or not the U.S. joined it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ree or Disagree and give at least 2 specific reasons why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174240" y="1593360"/>
            <a:ext cx="8969400" cy="42339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87000"/>
          </a:bodyPr>
          <a:p>
            <a:pPr marL="380880" indent="-2772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nti-Saloon League- protested for legal prohibi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aloon = bar in the 1920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TCU (Women’s Christian Temperance Union)- female group dedicated to banning alcoho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peakeasies = illegal bars during Prohibi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Bootlegging = illegally making and selling alcoho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TextBox 3"/>
          <p:cNvSpPr/>
          <p:nvPr/>
        </p:nvSpPr>
        <p:spPr>
          <a:xfrm>
            <a:off x="398520" y="5627520"/>
            <a:ext cx="8364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Corbel"/>
              </a:rPr>
              <a:t>Learning Goal: Students will be able to explain at least 2 trends of the 1920’s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obster, nicknamed Scarfac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ade a ton of $$ smuggling and selling alcoho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ade over $60 million by 1927 selling alcohol, and leading a gambling and prostitution ring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TextBox 3"/>
          <p:cNvSpPr/>
          <p:nvPr/>
        </p:nvSpPr>
        <p:spPr>
          <a:xfrm>
            <a:off x="398520" y="5504040"/>
            <a:ext cx="8364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Corbel"/>
              </a:rPr>
              <a:t>Learning Goal: Students will be able to explain at least 2 trends of the 1920’s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Noble = something morally goo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s was the nickname for Prohibi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rohibition failed because it was too difficult to enforce (bribes, not enough police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TextBox 3"/>
          <p:cNvSpPr/>
          <p:nvPr/>
        </p:nvSpPr>
        <p:spPr>
          <a:xfrm>
            <a:off x="398520" y="5504040"/>
            <a:ext cx="8364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Corbel"/>
              </a:rPr>
              <a:t>Learning Goal: Students will be able to explain at least 2 trends of the 1920’s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nish for homework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reate a Layered Book Foldable for Amendments 18, 19, and 21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Be VERY specific with the details for each amendm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ry and include quotes from each amendm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457200" y="1774800"/>
            <a:ext cx="8229600" cy="50832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mplete a Supreme Court Case Study Handou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You have 10 minutes to complet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hoose from the following Cases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Miranda v Arizona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Brown v Boar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lessy v Ferguso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inker v Des Moin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457200" y="1693440"/>
            <a:ext cx="8229600" cy="4707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6000"/>
          </a:bodyPr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Definition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: Hating all non-native American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xamples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Emergency Quota Act (1921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The number of immigrants allowed to enter the U.S. was limited to 3% of the # (number) of immigrants already living in the US as of 1910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acco &amp; Vanzetti Trial: Innocent, but victims of the Red Scar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TextBox 3"/>
          <p:cNvSpPr/>
          <p:nvPr/>
        </p:nvSpPr>
        <p:spPr>
          <a:xfrm>
            <a:off x="322200" y="5842080"/>
            <a:ext cx="8364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Learning Goal: Students will be able to explain at least 2 trends of the 1920’s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282600" y="1643040"/>
            <a:ext cx="8539200" cy="41688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2000"/>
          </a:bodyPr>
          <a:p>
            <a:pPr marL="402840" indent="-2934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KKK = Ku Klux Klan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Corbel"/>
              </a:rPr>
              <a:t>Focused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 on foreigners/immigrants, not blacks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Members had to be native-born white Protestants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Hated the American “Melting Pot” (idea that the U.S. was a melting pot of different cultures and ethnicities)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Also protested against African-Americans, Catholics, and Jewish people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Klan died out when their leader assaulted and killed a young gir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TextBox 3"/>
          <p:cNvSpPr/>
          <p:nvPr/>
        </p:nvSpPr>
        <p:spPr>
          <a:xfrm>
            <a:off x="457200" y="5811840"/>
            <a:ext cx="8364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Learning Goal: Students will be able to explain at least 2 trends of the 1920’s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at is 1 trend of the 1920s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457200" y="141444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nflict between creationism and evolu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undamentalists believed in the Bible and the creation story as told in Genesis 1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arwin’s theory of evolution argued people came from earlier life form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TextBox 3"/>
          <p:cNvSpPr/>
          <p:nvPr/>
        </p:nvSpPr>
        <p:spPr>
          <a:xfrm>
            <a:off x="398520" y="5842080"/>
            <a:ext cx="8364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Learning Goal: Students will be able to explain at least 2 trends of the 1920’s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COPES TRIAL- nicknamed the Monkey Tria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John Scopes taught evolution, on purpose, because it was illegal. He was arrested, tried, and found guilty but no real punishm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TextBox 3"/>
          <p:cNvSpPr/>
          <p:nvPr/>
        </p:nvSpPr>
        <p:spPr>
          <a:xfrm>
            <a:off x="398520" y="5526000"/>
            <a:ext cx="8364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Learning Goal: Students will be able to explain at least 2 trends of the 1920’s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0" y="1407600"/>
            <a:ext cx="9144000" cy="5450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Option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1: Thesis Statem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romp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Nativism was a major problem during the 1920s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. Agree or Disagree, and provide AT LEAST 2 historical examples to prove your thinking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Option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2: KWL Chart on World War 1 and the U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274680" y="4707000"/>
          <a:ext cx="8412120" cy="2054160"/>
        </p:xfrm>
        <a:graphic>
          <a:graphicData uri="http://schemas.openxmlformats.org/drawingml/2006/table">
            <a:tbl>
              <a:tblPr/>
              <a:tblGrid>
                <a:gridCol w="2803320"/>
                <a:gridCol w="2805120"/>
                <a:gridCol w="280368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What I Already Kn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What I WANT to Kn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What I have LEARN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182520" y="1407960"/>
            <a:ext cx="873144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6000"/>
          </a:bodyPr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rohibit = to not allow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1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rbe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Amendment (1920): Alcohol made illega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Volstead Act: Law made to enforce the 1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rbe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Amendment. Made it illegal to make and sell any beverage with alcohol content of .5% or highe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y prohibition? Many believed alcohol was at the root of many social evil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2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rbe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Amendment: Alcohol made legal agai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TextBox 3"/>
          <p:cNvSpPr/>
          <p:nvPr/>
        </p:nvSpPr>
        <p:spPr>
          <a:xfrm>
            <a:off x="398520" y="5526000"/>
            <a:ext cx="8364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Corbel"/>
              </a:rPr>
              <a:t>Learning Goal: Students will be able to explain at least 2 trends of the 1920’s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03:05:32Z</dcterms:created>
  <dc:creator>Mark Scacewater</dc:creator>
  <dc:description/>
  <dc:language>en-US</dc:language>
  <cp:lastModifiedBy>Mark Scacewater</cp:lastModifiedBy>
  <dcterms:modified xsi:type="dcterms:W3CDTF">2013-12-17T02:45:13Z</dcterms:modified>
  <cp:revision>15</cp:revision>
  <dc:subject/>
  <dc:title>The 1920s</dc:title>
</cp:coreProperties>
</file>